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83393861"/>
        <c:axId val="13959368"/>
      </c:scatterChart>
      <c:valAx>
        <c:axId val="83393861"/>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13959368"/>
        <c:crossesAt val="0"/>
        <c:crossBetween val="midCat"/>
      </c:valAx>
      <c:valAx>
        <c:axId val="13959368"/>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83393861"/>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77481506"/>
        <c:axId val="18306231"/>
      </c:scatterChart>
      <c:valAx>
        <c:axId val="77481506"/>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18306231"/>
        <c:crossesAt val="0"/>
        <c:crossBetween val="midCat"/>
      </c:valAx>
      <c:valAx>
        <c:axId val="18306231"/>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77481506"/>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